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5AD-5C3C-44A6-85CF-1B31FAA7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21C-9E19-4024-B5EB-3BAAC270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4DDD7-DD92-4EB6-B22A-30A7AE8D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CAD8A-F4E4-4CA9-98DB-B6D86003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5C154-7D42-4651-9080-9740FCAD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1FD85-8252-4911-AFC1-E60580DE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F5BA9-6860-45CE-8C81-B47CDDA0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D9E9B-E644-44F7-A581-911F8FCC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BF064-B5DA-4568-A6F7-A93450F0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AA166-8309-46B6-B470-1701803A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29D50-8E3F-4B57-B81F-1C3CE98E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50217-AEF9-46AB-BD16-9AFF7CE7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E35-EEF7-46BB-9FF0-FB8F9DDC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C1469-66E5-4C32-9468-1C9B8271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B9982-54DF-4E26-A1D6-33DED555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26A8E-1F55-4E49-92C1-0F8ADEEB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C63C5-30F5-41D4-B623-384A0A03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48BAA-7CFE-4F0E-BC27-6C6CF81E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EC046-D51D-4686-868D-D121ABBA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DAD18-1E2C-4BB2-A550-15892333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79C85-3CB5-4940-997F-7106619F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14BFC-A654-44E8-B033-5DC71BCF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A879A-1AE7-4283-A78A-026BDEBF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C06-9D87-44FB-8A7E-1C7F2E5C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DE103-4901-4598-9B9C-B63CDE43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71B8C-645C-4EAB-9872-6AD980B4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1C5A5-F0E8-4818-BF1C-562E07C3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0E46C-EA96-478C-B8F3-A44AAA4C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5D18B-765D-4DAE-980E-47156F52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9ED1C-6DD2-46CE-B12E-98D09BE2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47795-B098-4555-8ABC-7C667BD4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66515-9AB4-4C05-9196-CA8661CF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DC89A-D94E-4C8C-8BFE-2AC09106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569BB-5590-44A1-A4CD-A7A76CE5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940F-1A63-4989-A288-956C4F90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1E62D-C470-4867-B262-680802C6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CC571-5852-4AD5-B2E2-CEB6FC4D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AD8B6-3202-46E4-91BF-57B405B5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438C2-8F6B-4F9D-B094-58BA730C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BA71F-41E3-433C-AC97-F410D551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C563D-465C-4527-AB5D-229C4DCA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4036F-828C-4BA6-B063-01E5034E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2129B-43CC-4386-9B06-406ADBC9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457CD-FD6B-4958-80E3-5D09FA38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7D88B-50E3-4412-A317-FA8F815A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93AD-497E-4A79-8F4C-601D99AC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AF825-15E3-491C-8E4E-6AA905ED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E7186-0B3C-45B3-91BF-7A291AD7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9D410-4504-445C-BE8D-B8F965E5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F6F2B-3868-413C-AB65-A95A794B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4241A-904E-4E14-BB6E-43B290D4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3BC52-DE82-456B-A046-A0FD2FB8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72107-F409-4E81-AA4F-17772CC9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0060C-28C5-49FF-B00D-1F0328B4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8F901-F1A6-4776-83C4-B9FC893F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FD1D3-E542-4E57-8907-2952EEDB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6EE6-F6CE-42BA-9870-BA59FDC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20EDF-08FA-4238-87E3-D48CF1AA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A2044-171A-410F-928C-565950D9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75D33-5F96-4866-B885-0C7DA32C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E2CA2-DD0C-4F7C-8477-CB6D81DC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181E5-9638-49D5-BC6F-998A2517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DFA88-7413-4DA6-B055-284BD256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57B3F-0AB8-40FA-A1C3-3F8F928E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38142-6446-43F6-902F-3CA0A0E1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71D89-A878-4229-8B0C-5048218F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3AA1F-DF08-4AAF-A3B0-7A878F0B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9611-6674-47B8-A8BE-994A3EA2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0871D-3C36-437D-BBBD-25EDE9BB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9E960-1D80-42CD-97FB-8417E4F8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2CE63-2390-4E33-AAD4-1E6B431C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789AA-37DB-4EEE-BFF1-77D3D7E5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D03F8-07C3-4816-83E0-DD90E06D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EDB29-3D4D-43F4-994E-289F360A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B1468-614E-4F4F-A9AD-C2C8321B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5FCDF-B373-4B51-A824-4FD317A8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8C1A9-CA11-4450-84D3-6C5B56A9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759F7-6861-462D-AE77-95248A0D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0F95-03BB-42CD-95D6-3587F813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1C8E0-EC64-45BB-912E-24A78ACA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F8CA2-9A68-475D-ADBF-0A4A7131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0A2E8E-A41E-40D6-89B9-3262508C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55FD8-F880-4505-9C4D-C72EDE62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683CE-7C70-47E0-923F-99ADFB42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2D0D1-E9C5-46BA-A209-3C31B1FE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14EBB-C5C1-4C40-8AA0-F372516B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BA154-580B-4991-97E6-816EA7EB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8B29F-D235-4AC9-A55B-5F13A54F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BBFC76-D11A-4A89-A6C7-812AB7CB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5288-5EF9-4BC5-9DD6-026B4556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4208A-5918-413A-8A51-B2E46B7E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FAF51-7749-4231-9B39-73982A1F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97372-C5A8-4CB1-A678-1DC0BD89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A9FFC-C562-413D-B42B-B4D3423C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2BF34-4183-40DA-85C9-44E107A0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EAA94-4546-48BF-9ED5-0AA5852D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C7EC25-F925-499E-ADBB-9B2E87DE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0BCEC-DE2F-4483-8B5C-E8B27CE1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4A0BD-4701-4CCC-A5A6-D914D13D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958E4-96C4-4DCE-82E3-5B6578E3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94AA-FDC8-4A8D-8F3D-15FDA694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4FA021-77D6-475A-A7B1-AC00B4DE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B894F-D0C6-4DD2-B71E-5AC2D0FA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D9EE2-E8E9-492D-B642-B86E9846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D60C1-33B4-49A3-9678-D9203D1C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F076D6-05AB-476B-B016-708B175E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C4979-399B-4B98-8F1A-A5800939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116241-8F61-4AE6-A87B-E74E46EA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D85D4-F1A3-458D-9BC1-C79BD07B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E20CE-793A-431B-AD9F-00E336A0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BFED5B-7E90-4086-B95A-6DCF848E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463-95C2-4B5C-9AB5-BA165832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5309-8EDA-4090-B528-E6379D92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FAD66-E9B1-4DB4-B62D-08B11C58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7770A-6196-4FB6-A17E-C456CBC1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19171-0A60-498B-8BEC-06CDCDA4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3B413-ED74-42A4-B3CB-BDC564D0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F29CE-96D8-4F57-98A8-725DFB3A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7DCEAC-EC9A-4C77-9ED7-58266508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C988A-612E-4344-A1E5-367DEEFA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5819B4-9EE9-4051-9DB6-63EF2724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9432C7-5AAE-4FFD-8902-ED00417B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6010EF-582A-475C-804A-995AE671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15D8-9A96-4F31-BFC5-7986D06D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45B487-3919-4971-8C4F-22A08C05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8D4E71-1E92-4F40-A398-1DC8E16A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461AA-461C-442F-8A8A-6DAC6DB0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E9A3AB-74C5-464E-9795-AAF696CA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1D9D3-1BE9-4A77-88D4-57EFBE01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813CD-EFBE-43E9-A28B-616F0992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62D90A-DBB1-487A-A9D7-1107F000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3A72DC-FDDD-4AB5-B279-8987F4D4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7AAB37-1E87-4926-8A84-D809B8EB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8BF6D2-3896-47B9-9356-4FA0C5FC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0F23-AA00-493D-B86F-78F89D2A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C9EB28-D424-42D5-8826-C559EE74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BB6466-FEB9-430A-BA64-0D8DF192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272CFB-04CB-4389-89E6-218FEEBA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2DA420-3E25-4263-AB26-7380AE67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490B4-42F6-42E2-950D-3658BC06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A6B53-39E4-49C4-A223-AC32155A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D8279-8C0C-451A-8223-E373C298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DB05D8-5B80-49D1-864A-084FFFCC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30400-5E4A-4F54-A035-34D45FF9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D37F30-B3FD-4538-B689-46DAA67B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5073-CD10-4A4B-A8BB-C67D5BD4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43B5F4-C62C-4555-818A-EF3E6FBD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51CC7B-4FF6-40C0-B80B-86D3F59A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372690-98AA-4F19-9AE2-488D489B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2E23E1-DCDD-4020-BA20-6226254F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8CC3F2-97A7-4846-B7F0-3B5296C2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728E9-DEA4-4C9C-9A6D-CF2947D0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A9109-DA37-44E4-96FF-3CE324CA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360B6-A2A2-41C1-9179-B256503F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15AA3F-8222-41F4-BE8B-19ABF674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284AFC-9AFC-4EC6-A416-78F0EC85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8387-6040-4378-84E4-F60F6902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48724A-F598-4585-A218-80EC9CEB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534F6F-A351-46E8-8C8E-FFAA71A6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7AA479-BA4D-44F0-A813-F4D52F9B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78C43B-F721-4057-8009-1A1C73EB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344E0D-82F0-4DC9-8ED0-2CAA4EE6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394B4-9F9F-4200-AFBE-ADEA7A2F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06B5D9-4D77-4FD1-A4E4-135E94E6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54FC4-7D79-4EEE-A506-B9F12DD7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17AB44-8C39-47FF-8067-CF787974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8DD5C5-CC52-41DB-91B6-1FA2E480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48A9-D08E-4630-B13C-09EBEFE5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29B42A-9EBD-46FA-9CC7-DEAF8B8C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155D87-98F0-4366-9C55-F8D7CEA3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6F5487-F0B2-4B8C-B509-DFF8A9FC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03A66-BD77-4EDF-A453-B0709D55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24C3-C30D-4527-87A8-0309AE29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9C0A9-6691-4320-A20A-35045D99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79F8-4311-4D87-A85A-842F21FC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013-9558-4B25-A359-03347FB6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79F30-1BB1-4290-8907-EF1827E9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2389C-1713-4AEB-90EC-E537D14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8923-A251-4793-B2A9-307415B4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5861-EA72-420D-961E-5002C201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165E-4176-4077-ACF3-07480EEF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262A-A0D5-4DBC-A96C-29F2FC31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E80A-D9C5-4D18-A34F-F94CC7A5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5D74F-4C24-4583-8F00-70A5D5CC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6059E-B13F-4D47-AA75-8503CB22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96817-27EF-4F94-8AE7-FD023771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C6E-54F0-4B91-A1B5-3D7AD7C6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93917-0E75-4233-8C30-9DD2A1CE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FB75E-265F-4DF9-BFDD-F28C1691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1277D-B708-44EF-88E6-17C30C09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DD4C7-5A00-4E2F-B599-92E01BCC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5C01-124A-4BC0-9B4F-F086322D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7D01-3CA9-43E4-861D-F595691A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E80E9-FA6D-4CFB-8FDD-3D352AB2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C37F-12E6-464D-B11B-7A5354D2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9C78-F565-472B-B170-7F026CB4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EEC48-93CF-4F6E-BF74-049320C1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DA9-E890-446B-9872-8E2B392B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3F852-0537-4271-ABDB-D70CFD11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45EE0-DD0F-45CF-B3E1-37C9E7D3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A76DA-6229-4873-BE5C-D1841FE6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A6C1-EB34-4FC6-B980-9E556CFF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B0A2-0384-4B0E-BD36-98CB1350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CB94-83CB-4197-88DC-B5BF2896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7A0F-179E-403B-B2D6-F05A17D3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AB793-186F-4608-8263-D07CEFD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8D7DB-E7A4-473A-B73B-E1817D6B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D250E-D383-492B-B6AE-8B45A076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8F6-AE15-4EAB-93CB-00C5B9D1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57978-8775-4CE5-AFEC-257C9C18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C039B-0CEF-4C38-BD15-38AE87C7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0E04-856C-4539-AABB-83EF44FA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7FC2F-8EF7-46FE-9BE1-5D0600B8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530C1-E215-4140-B678-DEB6A7C7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B94FB-F070-4775-A461-2EDD9169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D263-4509-4855-BE98-64055C53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DA6E6-EE5C-4F39-9D00-30345E65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26756-8AF8-4C80-B340-D7976FBE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466EA-67E9-4327-83C5-1D58613D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BB6-0764-4AA7-9F7C-8C410510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4EF55-600F-4D25-895C-BE7C8FCA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34D71-AF23-4CD7-A9A0-6F5B81BC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C383D-26EA-4242-ACD8-50FD7EBD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78564-1230-424B-AAA4-9A54F04D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CFB9D-A547-4F3F-8D53-0DADB242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E510D-6553-410F-8309-E712E64B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28A37-F061-4B53-860A-5C181C20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6D391-1874-41DB-B853-0A92DBDF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5C209-E13F-4974-BD11-3DFEFF7E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D362C-8BC4-4C11-8956-4E2FFFC7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3C0-A802-4C54-9261-D7DF09B7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E6EB0-8DC5-4B7E-8215-80AE7873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0AB77-9C0D-4931-B29B-0C5BE2C9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79B5F-56C6-444E-B7DB-67CB766F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CA29D-D3A0-4A8F-B20C-F88B47F1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EAA44-7990-4863-9595-69E97C11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B61B4-E74F-4ABF-9E29-E1399524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FF5D6-5066-48D7-AD4C-34FCC75C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BE076-B616-4312-964E-2B35CB44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B788A-5712-4168-8293-D826F88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18648-9A3F-480F-AA38-C5ED476B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043-386C-4833-89D4-80BD25B0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8FDD2-1A1F-472D-987A-C4E92711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7E9D0-1B3E-410D-839C-D0B638B5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C0748-CD57-4414-8ABD-33C032C4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84312-3511-4071-A254-ABABAE5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0E138-CB51-45D6-9BB3-8B5CC27C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8C505-1DBE-449C-B692-35154342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80535-2B60-4505-B84E-37B9A2B9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95BA9-2AD6-42B1-9B94-8A55C61D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89540-710E-4F46-8F16-9C95DC64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24546-8116-47A9-9770-6810CB0F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783B-BE1D-4EE6-8670-3B77A0910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D68B-25FF-4481-BE73-DAE5E7832E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BAB3-4893-4BBB-B013-F5C90DD50D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E185-7D43-4436-8562-824F5F927B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6962-1653-4BDC-82D9-6B155F706D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2091-8AE0-4B96-80F8-4F731FB4A6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927D-6682-4B1D-BCC7-E072FAA926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2365-FF2C-4298-A2B3-1CC01C917D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CC55-6731-4A06-8D4C-B74C901727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D320-9F8A-4F47-B1F5-554D3E5DEF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8BA1-3CE0-4D81-94BC-54C273454A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34E3-11E9-499A-A9FC-F6592BD56F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5364-7FF7-4318-98A6-50C9D06A9D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EE65-56D7-4034-85C7-DC22D48EF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0283-0656-4DA2-8FAD-FA1B0CFE18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5003-84E2-4BB5-8A19-4558952A93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EA67-AE86-4332-8AFD-6898303ECA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155D-46AD-4898-BD6D-FAC2409845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63B7-F868-454E-9F87-0F3641E857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ED69-911C-4900-8E75-1534445774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3CCD-7E29-4C4F-AD02-2B8F85752A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8241-E18D-4CFB-AE32-238E0D617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DD3E-EBEA-43F8-9F4D-BC4BEB91F0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E3FA-D86E-4285-A992-DF56339E79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5390-D834-4CED-B07C-5E9D5D6EB9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8FCC-4D3F-46E0-9D3E-4FCE5A2DE3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39FD-1776-4B0F-8A04-1B4B8F216C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0D21-B13F-4655-940E-3C740B67F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0965-DDB5-4E5A-8E7C-2E3F423BA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EAF5-B059-4431-961E-E2D5791DCE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E3FD-A5DD-4CE7-B8BD-BD50A0C42F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EDEC-99EE-49E5-84FB-8344349958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C331-36D1-4E24-B6D2-368DAB9127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0E72-EF44-4036-A1AF-95AB7F722B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E3D9-1099-46FC-8FD4-7E26286FE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F7C-9FF3-4A83-8982-C7CD0F0568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68C4-1818-4F50-8C78-105859F3C3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6BCD-000C-48AB-A2CB-D171FE01CD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02B4-07C9-4533-A762-B79E95F92D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993D-0BD2-4071-8EDC-642E565698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1" descr=""/>
          <p:cNvPicPr/>
          <p:nvPr/>
        </p:nvPicPr>
        <p:blipFill>
          <a:blip r:embed="rId2"/>
          <a:stretch/>
        </p:blipFill>
        <p:spPr>
          <a:xfrm>
            <a:off x="162000" y="3157560"/>
            <a:ext cx="88200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33200" y="1995480"/>
            <a:ext cx="8877600" cy="2867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1116000" y="252108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116000" y="314172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116000" y="3716280"/>
            <a:ext cx="474840" cy="422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116000" y="4292640"/>
            <a:ext cx="47484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5" name="组合 5136"/>
          <p:cNvGrpSpPr/>
          <p:nvPr/>
        </p:nvGrpSpPr>
        <p:grpSpPr>
          <a:xfrm>
            <a:off x="341280" y="85680"/>
            <a:ext cx="8190000" cy="6686640"/>
            <a:chOff x="341280" y="85680"/>
            <a:chExt cx="8190000" cy="6686640"/>
          </a:xfrm>
        </p:grpSpPr>
        <p:grpSp>
          <p:nvGrpSpPr>
            <p:cNvPr id="1036" name="组合 5128"/>
            <p:cNvGrpSpPr/>
            <p:nvPr/>
          </p:nvGrpSpPr>
          <p:grpSpPr>
            <a:xfrm>
              <a:off x="341280" y="85680"/>
              <a:ext cx="8190000" cy="6686640"/>
              <a:chOff x="341280" y="85680"/>
              <a:chExt cx="8190000" cy="6686640"/>
            </a:xfrm>
          </p:grpSpPr>
          <p:pic>
            <p:nvPicPr>
              <p:cNvPr id="1037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341280" y="85680"/>
                <a:ext cx="8190000" cy="668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Picture 1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6320" y="1341360"/>
                <a:ext cx="1973160" cy="129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Picture 1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9600" y="2565360"/>
                <a:ext cx="1482840" cy="15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Picture 1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4076640"/>
                <a:ext cx="1368360" cy="201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Picture 1" descr=""/>
              <p:cNvPicPr/>
              <p:nvPr/>
            </p:nvPicPr>
            <p:blipFill>
              <a:blip r:embed="rId5"/>
              <a:stretch/>
            </p:blipFill>
            <p:spPr>
              <a:xfrm>
                <a:off x="3030480" y="5084640"/>
                <a:ext cx="879480" cy="78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Picture 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54400" y="5445000"/>
                <a:ext cx="879480" cy="78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Picture 1" descr=""/>
              <p:cNvPicPr/>
              <p:nvPr/>
            </p:nvPicPr>
            <p:blipFill>
              <a:blip r:embed="rId7"/>
              <a:stretch/>
            </p:blipFill>
            <p:spPr>
              <a:xfrm>
                <a:off x="4543200" y="4307040"/>
                <a:ext cx="474840" cy="422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4" name="Picture 1" descr=""/>
            <p:cNvPicPr/>
            <p:nvPr/>
          </p:nvPicPr>
          <p:blipFill>
            <a:blip r:embed="rId8"/>
            <a:stretch/>
          </p:blipFill>
          <p:spPr>
            <a:xfrm>
              <a:off x="3608280" y="4076640"/>
              <a:ext cx="50328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5" name="Picture 1" descr=""/>
          <p:cNvPicPr/>
          <p:nvPr/>
        </p:nvPicPr>
        <p:blipFill>
          <a:blip r:embed="rId9"/>
          <a:stretch/>
        </p:blipFill>
        <p:spPr>
          <a:xfrm>
            <a:off x="7078680" y="5502240"/>
            <a:ext cx="1525680" cy="422280"/>
          </a:xfrm>
          <a:prstGeom prst="rect">
            <a:avLst/>
          </a:prstGeom>
          <a:ln w="0">
            <a:noFill/>
          </a:ln>
        </p:spPr>
      </p:pic>
      <p:sp>
        <p:nvSpPr>
          <p:cNvPr id="1046" name="直接连接符 5130"/>
          <p:cNvSpPr/>
          <p:nvPr/>
        </p:nvSpPr>
        <p:spPr>
          <a:xfrm>
            <a:off x="3059280" y="1413000"/>
            <a:ext cx="2017440" cy="4321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直接连接符 5131"/>
          <p:cNvSpPr/>
          <p:nvPr/>
        </p:nvSpPr>
        <p:spPr>
          <a:xfrm flipV="1">
            <a:off x="3564000" y="1483920"/>
            <a:ext cx="1439640" cy="1368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0"/>
          <a:stretch/>
        </p:blipFill>
        <p:spPr>
          <a:xfrm>
            <a:off x="7107120" y="1197000"/>
            <a:ext cx="1525680" cy="422280"/>
          </a:xfrm>
          <a:prstGeom prst="rect">
            <a:avLst/>
          </a:prstGeom>
          <a:ln w="0">
            <a:noFill/>
          </a:ln>
        </p:spPr>
      </p:pic>
      <p:sp>
        <p:nvSpPr>
          <p:cNvPr id="1049" name="直接连接符 5133"/>
          <p:cNvSpPr/>
          <p:nvPr/>
        </p:nvSpPr>
        <p:spPr>
          <a:xfrm flipV="1">
            <a:off x="3621240" y="2923920"/>
            <a:ext cx="1439640" cy="1368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1" descr=""/>
          <p:cNvPicPr/>
          <p:nvPr/>
        </p:nvPicPr>
        <p:blipFill>
          <a:blip r:embed="rId11"/>
          <a:stretch/>
        </p:blipFill>
        <p:spPr>
          <a:xfrm>
            <a:off x="7093080" y="2608200"/>
            <a:ext cx="1525320" cy="422280"/>
          </a:xfrm>
          <a:prstGeom prst="rect">
            <a:avLst/>
          </a:prstGeom>
          <a:ln w="0">
            <a:noFill/>
          </a:ln>
        </p:spPr>
      </p:pic>
      <p:sp>
        <p:nvSpPr>
          <p:cNvPr id="1051" name="直接连接符 5138"/>
          <p:cNvSpPr/>
          <p:nvPr/>
        </p:nvSpPr>
        <p:spPr>
          <a:xfrm flipV="1">
            <a:off x="3059280" y="4292640"/>
            <a:ext cx="1944360" cy="1441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1" descr=""/>
          <p:cNvPicPr/>
          <p:nvPr/>
        </p:nvPicPr>
        <p:blipFill>
          <a:blip r:embed="rId12"/>
          <a:stretch/>
        </p:blipFill>
        <p:spPr>
          <a:xfrm>
            <a:off x="7078680" y="4076640"/>
            <a:ext cx="15256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133200" y="1542960"/>
            <a:ext cx="8877600" cy="37720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1619280" y="4724280"/>
            <a:ext cx="488880" cy="422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3924360" y="4724280"/>
            <a:ext cx="488880" cy="422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6012000" y="4797360"/>
            <a:ext cx="488880" cy="422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7956720" y="4738680"/>
            <a:ext cx="488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262080" y="2062080"/>
            <a:ext cx="8618400" cy="2733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1332000" y="2637000"/>
            <a:ext cx="488880" cy="422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488880" cy="422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1258920" y="3789360"/>
            <a:ext cx="488880" cy="422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1258920" y="4365720"/>
            <a:ext cx="488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22:45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